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8C6A-D54F-499C-98E5-8FD540330826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C0A3-B57A-4E26-B1BE-CB36D46AC527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5BCF-3507-4C72-96A0-48E1E4D03C7B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D3EA-9CC9-4723-A2B0-B6E5FA26DF27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C13C-C413-421D-8324-C8D2CEBC1DBB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3918-3921-4DE2-895B-120815215F95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54D4-7CCC-4410-89F1-76D14F18ACC3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3CEC-8AA9-495B-B1C0-89EE92E61525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53B6-E84B-4E3B-9B50-44881987996D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9B71-F8C9-4BE7-912C-36E9C903FC1F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9A9E-D727-477E-B871-D346B5CB5A57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3610-2AD2-4FF5-9124-495DB93A96F1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CB80-D226-45A6-AF3C-48640582A93E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C57D-5CD0-4B46-8E32-BB241CDE6931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BBAB-CE09-4AE7-8504-BA23649EFB63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15D9-99C1-44BD-B8DE-C502C4B7F32B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1021-6F77-4B6C-BB45-41FE63BB917A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3E72-BDB3-4209-A565-7AD1B710E7EE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441F-11A1-4121-B3D4-15BD451A1BC7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B361-884F-45AF-8052-D038D69E46B7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682E-2694-4B21-98AC-0BB6DB5C940B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DB6D-C5DD-43AC-BF1B-6605309E41C1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83EB-9AE5-401C-A5C6-E07055EB0E65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FFA6-748B-4406-8B14-F2A3683CEA1E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0858-A422-4D54-8F26-C767F7CFFF9A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DAD1-C976-4710-8C79-E1BFB8BD7924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55A5-8152-42DE-8718-43B9990CA59D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0371-3824-4760-B607-24649311BF48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64F-6F15-43DA-BD5C-6C36DEEE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60E-7716-4E58-8095-18C75924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E40-CEF5-459B-91CC-430418CA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D42C-C0FC-4F1C-95F3-1B534F6E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DB9D-9ED5-4176-B478-0054FB27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4254-4602-45E1-8393-147CBFDB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7FEF-AD6D-4E19-92D2-6FE2342B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319E-40EE-4133-AB23-E9456871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5D12-D9E1-4953-AA5D-10F7D46E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E7F2-6BD6-4D9D-A827-68521D39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965E-DFB1-4C87-8C52-528F3BC3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158-738D-47A7-92AC-C751C8CE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557D-BE8E-4E47-9068-B4DD0C10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DC1D-2019-426D-9E12-F389143D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0556-54B1-4742-87E7-2AB4765A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1112-5742-4121-B9E9-8E95192F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CEA6-0F8B-4A8C-B65D-4999CA04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9DAD9-05BD-4DFE-A352-C9663CC1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84E90-EA88-48C5-8EA6-0DA4C5F2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064F2-A9BC-47E7-941C-768796E6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8F8C9-E40C-4B54-A4F0-40FAD03A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6484D-2408-4E33-A064-FC7574AB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638-4E3A-472C-8896-9EBAEB7B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D923D-E924-4D30-A552-23B917C4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08347-8F6A-4BA4-AB7B-F082D007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A261F-5416-47BC-8612-C6DB3510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18745-B9E7-4EB7-BBB5-713BE905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11365-E7B7-4AE8-A001-68E95521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43C0F-1A1E-4E2E-8FA8-9ED4F53A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398A9-0636-48C5-B513-665C53D2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EE11C-368C-49A4-A671-A61BB399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C3F8A-D30E-4BD7-BFA6-A6F5AE88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50989-EBE0-42F7-89F8-A89F1C23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0073-402F-4211-B241-A0596E31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E7F5F-FABD-492E-867A-A8B864A1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34D98-949B-44E8-8FE3-CD555E66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2C8FA-5684-4305-AF0A-0368574C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15C73-7C9E-42AA-8986-5A0D3227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72DD2-C933-4528-BFBF-3385A910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BE97D-C769-4FED-AFA3-35C47493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5077E-FB82-4598-AA1C-6295FD59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B06A0-321B-4395-A4E4-4575C425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A5B28-38FB-4EFB-B7E6-9D0C5839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AE6-4FC6-482C-9BD1-CFBC78DA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B55-8CAC-473D-AE29-18C1C185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EC0-3B90-4A8C-BF17-E4FEED9F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B81-4A90-44B7-8BE0-1D5152CF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6C0-1CBE-4BE9-A977-9D6F1A34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6F28-F361-4DB3-BC07-486CEAB31F7D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모서리가 둥근 직사각형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모서리가 둥근 직사각형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840F-505A-4B8B-82B0-56FDD54B542C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351E-D55D-4777-88B8-18F0A14622DC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C9DF-C6B8-4C09-A1A4-8CB1E3C20F18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기술적 합리성은 </a:t>
            </a:r>
            <a:br>
              <a:rPr sz="4400"/>
            </a:b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인간과 환경을 닦달하는가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현대 기술과 공학의 철학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9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0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9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정동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하이데거의 문제 인식과 그 해결책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탈은폐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알레테이아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의 두 가지 방식 중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포에이시스는 긍정적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닦달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(Ge-stell)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은 부정적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닦달은 왜 위험한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모든 존재의 의미를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한낱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’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부품으로 축소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더 근원적인 탈은폐에로 귀의하여 더 원초적 진리의 부름을 경험할 수도 있는 기회를 놓쳐 버릴 수 있다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어떻게 해결할 수 있는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포에이시스 방식으로 돌아가야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탈은폐 활동의 하나인 예술에 희망이 있음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통제와 지배에서 경탄으로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비판적 검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존재의 의미가 그 기능에 의해 주어지는 것이 문제인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비행기와 같은 인공물은 어쩔 수 없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연물의 경우에는 문제가 될 수 있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예컨대 예컨대 지구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채탄장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으로 의미 부여되는 경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그러나 하이데거도 그 자체를 문제삼지는 않음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다만 채탄장으로만 의미가 부여됨으로써 다른 심오한 의미가 드러날 기회가 사라진다면 문제라고 생각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존재들의 의미는 정말 축소되고 있는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과거에 활용되지 않던 대상들이 점점 활용되고 있다면 그 대상들은 새로운 의미를 얻은 것 아닌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대신 대상이 원래 가지고 있던 신비한 의미들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예컨대 신화는 잊혀짐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.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그러나 이런 의미 상실은 바람직한 것 아닌가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만약 하나의 대상이 여러 용도로 사용된다면 더욱 풍부한 의미를 얻게 되는 것 아닌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여전히 그것이 부품으로서의 의미에 그친다면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하이데거는 원초적 진리에 다가가지 못한다고 생각할 것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.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그러나 하이데거가 말하는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 ‘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근원적인 탈은폐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’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또는 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‘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원초적 진리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’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란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거 기술과 현대 기술은 정말 다른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수력발전소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풍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수력발전소가 강을 수압공급자로 탈은폐한다면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, </a:t>
            </a:r>
            <a:br>
              <a:rPr sz="2400"/>
            </a:b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풍차는 공기를 기압공급자로 탈은폐한 것이 아닌가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?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현대 농부의 경작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거 농부의 경작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과거 농부는 정말 농토에서 무엇을 내놓으라고 하지 않았단 말인가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? 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거 기술 역시 대상에 기능적 의미 부여를 했으며 일종의 닦달을 했다고 보는 것이 적절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닦달의 주체는 누구인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이데거는 닦달의 주체를 애매하게 표현하고 있지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닦달의 주체는 인간일 수밖에 없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간이 닦달의 주체임에도 닦달을 받는 이유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간이 특정한 목표를 위해 시스템을 필요로 할 경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일단 그 시스템이 만들어지고 나면 그 시스템을 계속 작동시키기 위해서 시스템 내에 있는 인간들은 특정한 기능을 하는 부품처럼 작동해야 하기 때문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하이데거의 의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현대에 들어서면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대상에 대한 전형적인 이해 방식이 다른 대상의 이해를 위한 표준적 모형을 제공하고 있음을 보여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와 유사하게 막스 베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크 엘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위르겐 하버마스 등은 기술적 문제의 해결을 위한 합리성이 현대 사회의 합리성에 대한 모형을 제공하고 있다는 점 인식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합리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적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도구적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)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합리성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주어진 목적에 대한 가장 효율적 수단의 추구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흔히 수학과 과학과 밀접한 관계가 있다고 여겨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수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목적 관계는 인과 관계와 상호 번역 가능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효율성은 정확한 값으로 평가될 수 있다고 생각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목적 자체에 대한 평가는 수행하지 않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목적의 선택 자체는 자의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주관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비합리적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목적과 가치에 대해서는 합리적 근거 제시 불가능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f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수학적 합리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적 합리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철학적 합리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현대 사회와 기술적 합리성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베버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합리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합리적 원리를 통한 사회의 체계화 및 조직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엘륄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현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생활과 사회의 모든 측면에 대한 기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technique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의 적용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예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회공학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관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하버마스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생활세계의 식민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간 의사소통 영역에 대한 기술적 접근과 도구적 합리성의 적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마르쿠제의 기술적 합리성 비판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적 합리성만 유의미하고 전통적인 형이상학과 윤리는 무의미하다는 생각은 현대 사회의 이데올로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목적과 가치에 대한 질문을 합리적 탐구와 논의의 영역 밖으로 밀어내는 것은 암묵적인 지배 가치에 대한 비판을 방해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본주의와 관료제에 대한 암묵적 정당화 수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하버마스의 기술적 합리성 비판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목적에 대한 효율적인 수단을 다루는 기술적 합리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발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의미와 목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규범을 다루는 의사소통적 합리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정치적 발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오늘날 무반성적으로 진행되고 있는 기술적 진보와 사회관료적 발전은 기본적으로 사회적 삶의 재생산과 관련된 본능적 자기보존 목표에 의해 규정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능력과의 연관 하에서 관심과 목표에 대한 공적인 정당화를 반성적으로 수행할 때에만 무계획적인 기술적 진보와 사회적 삶 매개 가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하이데거의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“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에 대한 논구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”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본질에 대한 재정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목적을 위한 수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은 올바르지만 참되지 않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은 존재의 숨겨진 진리를 드러내는 한 방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거 기술과 현대 기술의 탈은폐 방식 차이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거 기술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밖으로 끌어내어 앞에 내어 높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현대 기술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도발적 요청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닦달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Ge-stell)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든 자연과 인간을 준비된 부품으로 드러나도록 주문 요청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누가 도발적으로 닦아세우는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물론 인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러나 인간은 비은폐성의 부름에 응답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배후에 숨어 있는 지배의 비합리성은 기술적 합리성의 실현에 의해 소멸되지 않는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오히려 보존되거나 강화되곤 한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것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보편적이고 강제 없는 토론의 원리를 기반으로 형성된 정치적 의사결정에 의해서만 파괴될 수 있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”–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버마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적 진보와 사회적 생활세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마르쿠제와 하버마스 모두 기술적 발전이 정치적 해방을 가져올 것이라는 당시 널리 퍼진 낙관적 생각의 오류 지적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기술적 합리성 비판에 대한 비판적 검토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마르쿠제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합리화가 문제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해결책은 전통적 형이상학과 윤리의 부활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비현실적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오히려 보수적 해결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하버마스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부족한 합리화가 문제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의사소통적 합리성의 전면적 실현을 통한 토의 민주주의 완성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토론을 통해서만 목적과 가치가 다루어진다는 잘못된 생각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시장에서도 목적과 가치가 다루어짐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물론 시장에서 다루어지는 데에는 한계와 편향이 있음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가치와 목적에 대한 토론과 상호이해의 필요성을 보여주는 반면 합의에 대한 비현실적 기대가 숨어있음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가치의 다양성에 대한 인정 및 존중 필요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위험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/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편익 분석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개별 프로젝트에 대한 정량적인 평가 방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 평가에 기술적 합리성 개념 적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위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편익은 주로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/+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돈으로 환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각 위험과 편익의 가중치는 확률에 의해 부여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평가는 오직 결과에 의해서만 이루어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철저한 공리주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간단한 위험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/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편익 분석의 예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파스칼의 행렬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900000" y="3141720"/>
          <a:ext cx="5832720" cy="2663640"/>
        </p:xfrm>
        <a:graphic>
          <a:graphicData uri="http://schemas.openxmlformats.org/drawingml/2006/table">
            <a:tbl>
              <a:tblPr/>
              <a:tblGrid>
                <a:gridCol w="1729080"/>
                <a:gridCol w="1366560"/>
                <a:gridCol w="1279800"/>
                <a:gridCol w="14572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신이 있다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(0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신이 없다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(0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결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신을 믿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신을 믿지 않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-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위험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/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편익 분석의 어려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확률값 산정의 어려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위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편익 값 평가의 어려움 및 편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돈으로 간단히 책정되지 않는 항목의 경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인간 생명의 가치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미적 가치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야생 동물의 가치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상업적으로 활용되지 않는 생물종의 가치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단순 합산의 불가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다수의 작은 혜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ut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소수의 큰 위험 사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위험 당사자와 이익 당사자의 불일치 문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위험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/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편익 분석 관련 논쟁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위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편익 분석은 주로 프로젝트 정당화용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일반인들의 위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편익 평가는 비합리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일반인들의 대체적인 위험 평가 패턴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발적 위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강제적 위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생소한 위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gt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익숙한 위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재앙 가능성의 위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gt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분산된 위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불균등한 위험 분포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gt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균등한 분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위험 측정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위험의 수용가능성 판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객관적인 위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편익 분석은 불가능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위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편익 분석은 사회적 편견의 결과물일 뿐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과제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현대 기술과 과거 기술 사이의 질적인 차이가 존재하는지 입장을 정하여 논하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합리성 이상의 합리성이 존재하는지 자신의 입장을 정하여 논하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위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편익 분석은 기술 프로젝트를 평가하는 수단으로 합리적인지 평가하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우리는 어느 한 지역을 석탄과 광석을 캐내기 위해 도발적으로 굴착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지구는 이제 한낱 채탄장으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대지는 한낱 저장고로 탈은폐될 뿐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농부들이 예전에 경작하던 밭은 그렇지 않았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농부의 일이란 농토에 무엇을 내놓으라고 강요하는 것이 아니라 씨앗을 뿌려 싹이 돋아나는 것을 그 생장력에 내맡기고 그것이 잘 자라도록 보호하는 것이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”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러나 오늘날의 농토 경작은 자연을 닦아세우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전과는 다른 종류의 경작 방법 속으로 흡수되어 버렸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제는 그것도 자연을 도발적으로 닦아세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경작은 이제 기계화된 식품 공업일 뿐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공기는 이제 질소 공급을 강요당하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대지는 광석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광석은 우라늄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우라늄은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파괴를 위해서든 평화적 이용을 위해서든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원자력 공급을 강요당하고 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채광장에서 채굴된 석탄은 그저 어디에건 놓여 있기 위해서 닦아세워진 것이 아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우리는 석탄을 저장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다시 말해 석탄 속에 축적되어 있는 태양열을 끄집어 내기 위해 그 자리에 놓아두는 것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리고 이 축적된 태양열은 열 제공을 강요당하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또 이 열은 증기를 공급해 그 압력으로 모터를 돌릴 것을 주문받으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로써 하나의 공장이 가동되고 있는 것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활주로에 놓여 있는 여객기는 분명 하나의 대상이 아닌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물론 그렇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우리는 그 기계를 그런 식으로 생각할 수도 있을 것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러나 그 경우 그 기계는 자신이 무엇이며 어떻게 존재하고 있는지를 스스로 은닉하고 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것이 운송의 가능성을 확실하게 보장하기 위해 요청받고 있는 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 기계는 활주로에 한낱 부품으로 탈은폐되어 있는 것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 때문에 그 기계 자체는 전체 구조에 있어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즉 모든 제반 구성 요소에 있어 임무 수행 완료의 상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즉 출발 준비의 상태에 있어야 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268280"/>
            <a:ext cx="822960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만일 인간이 그렇게 도발적 요청을 받고 있어 그렇게 주문받고 있다면 인간 자신도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오히려 자연보다도 더 근원적으로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부품에 속하는 것이 아닌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력 자원이니 임상 실험용 환자 자원이니 하는 떠도는 이야기는 바로 이 점을 입증하고 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숲에서 벤 나무들을 측량하고 있는 산지기는 겉보기에는 그의 할아버지와 동일한 방식으로 똑같은 숲길을 다니지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오늘의 그는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가 알건 모르건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목재 가공 산업에 의해 주문받고 그 일을 하고 있는 것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는 섬유소를 만들어내도록 주문받고 있으며 섬유소는 종이의 수요에 의해 강요되고 종이는 신문이나 읽을거리를 위해 공급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하이데거는 무엇을 보았는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존재의 의미가 종종 인간의 목적의식적 사용을 통해 드러난다는 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은 존재의 숨겨진 진리를 드러내는 한 방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비행기는 목적의식적 사용의 요청 없이는 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신의 존재 의미 은닉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지구는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…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로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대지는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…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로서 탈은폐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거에는 인간의 목적을 위해 사용되지 않았던 대상들이 현대로 올수록 점점 더 많이 인간의 목적을 위해 활용되고 있다는 점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석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우라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현대의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기술적 인공물들은 언제나 그것을 포함한 시스템 내에서 기술로 작동한다는 점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채굴된 석탄은 공장 가동 시스템의 일부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비행기는 운송 시스템의 부품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현대에는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인간도 시스템의 일부로 작동한다는 점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인간인 목수마저도 목재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종이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언론 생산 시스템의 부품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현대에는 자연과 인간의 의미가 기술 시스템 내에서 수행하는 알려진 기능 외에는 부각되지 않는다는 점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지구는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한낱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’ 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채탄장으로 탈은폐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비행기는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운송 시스템의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) ‘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한낱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’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부품으로 탈은폐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6:15:59Z</dcterms:created>
  <dc:creator>zolaist</dc:creator>
  <dc:description/>
  <dc:language>en-US</dc:language>
  <cp:lastModifiedBy>zolaist</cp:lastModifiedBy>
  <dcterms:modified xsi:type="dcterms:W3CDTF">2010-10-29T02:55:44Z</dcterms:modified>
  <cp:revision>72</cp:revision>
  <dc:subject/>
  <dc:title>기술적 합리성은  인간과 환경을 닦달하는가?</dc:title>
</cp:coreProperties>
</file>